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216-1433-4F47-A03D-A0A6EE42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B9F1-90A9-4ED4-B92A-C5B3F8B6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C3AD-5226-4AA9-85DC-675DF979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B70C-4638-4128-9EE9-783D54C0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D3E3-80D4-4DFD-A24F-E48B9A22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999F-77CA-49B3-B1DE-C522498B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B42-055D-4EB0-9F87-FCAAA430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5FCD-DFE1-4329-87F9-36099F89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FF55-8272-4A2A-A8C3-11B3EB0D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0C8D-6F4F-4CD8-9283-570BADC2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8B3-A262-417C-93EE-C5168C4F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72B-7614-4383-9713-01691350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750D-7507-438B-8FA4-AA875C426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6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2.xml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www.modot.mo.gov/northeast/programs/conegame/images/wrong_answer.gif&amp;imgrefurl=http://www.modot.mo.gov/northeast/programs/conegame/7c.htm&amp;usg=__AE2n7_HX2cBsfxqM3lFgSX2OmIY=&amp;h=100&amp;w=100&amp;sz=5&amp;hl=en&amp;start=11&amp;um=1&amp;itbs=1&amp;tbnid=6PgGKzYYMNjpEM:&amp;tbnh=82&amp;tbnw=82&amp;prev=/images%3Fq%3Dwrong%2Banswer%2Bimage%26um%3D1%26hl%3Den%26sa%3DN%26tbs%3Disch:1" TargetMode="External"/><Relationship Id="rId3" Type="http://schemas.openxmlformats.org/officeDocument/2006/relationships/image" Target="../media/image14.jpeg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2.xml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www.modot.mo.gov/northeast/programs/conegame/images/wrong_answer.gif&amp;imgrefurl=http://www.modot.mo.gov/northeast/programs/conegame/7c.htm&amp;usg=__AE2n7_HX2cBsfxqM3lFgSX2OmIY=&amp;h=100&amp;w=100&amp;sz=5&amp;hl=en&amp;start=11&amp;um=1&amp;itbs=1&amp;tbnid=6PgGKzYYMNjpEM:&amp;tbnh=82&amp;tbnw=82&amp;prev=/images%3Fq%3Dwrong%2Banswer%2Bimage%26um%3D1%26hl%3Den%26sa%3DN%26tbs%3Disch:1" TargetMode="External"/><Relationship Id="rId3" Type="http://schemas.openxmlformats.org/officeDocument/2006/relationships/image" Target="../media/image14.jpeg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2.xml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www.modot.mo.gov/northeast/programs/conegame/images/wrong_answer.gif&amp;imgrefurl=http://www.modot.mo.gov/northeast/programs/conegame/7c.htm&amp;usg=__AE2n7_HX2cBsfxqM3lFgSX2OmIY=&amp;h=100&amp;w=100&amp;sz=5&amp;hl=en&amp;start=11&amp;um=1&amp;itbs=1&amp;tbnid=6PgGKzYYMNjpEM:&amp;tbnh=82&amp;tbnw=82&amp;prev=/images%3Fq%3Dwrong%2Banswer%2Bimage%26um%3D1%26hl%3Den%26sa%3DN%26tbs%3Disch:1" TargetMode="External"/><Relationship Id="rId3" Type="http://schemas.openxmlformats.org/officeDocument/2006/relationships/image" Target="../media/image14.jpeg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20.xml"/><Relationship Id="rId1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.edu/franklin/scientst/electric.html" TargetMode="External"/><Relationship Id="rId3" Type="http://schemas.openxmlformats.org/officeDocument/2006/relationships/hyperlink" Target="http://www.kidsnewsroom.org/elmer/infoCentral/frameset/inventors/franklin/index.html" TargetMode="External"/><Relationship Id="rId4" Type="http://schemas.openxmlformats.org/officeDocument/2006/relationships/hyperlink" Target="http://www.youtube.com/watch?v=e3HDeesg6Lk" TargetMode="External"/><Relationship Id="rId5" Type="http://schemas.openxmlformats.org/officeDocument/2006/relationships/hyperlink" Target="http://russell.gresham.k12.or.us/Colonial_America/Betsy_Ross.html" TargetMode="External"/><Relationship Id="rId6" Type="http://schemas.openxmlformats.org/officeDocument/2006/relationships/hyperlink" Target="http://www.brainyquote.com/quotes/authors/w/william_penn.html" TargetMode="External"/><Relationship Id="rId7" Type="http://schemas.openxmlformats.org/officeDocument/2006/relationships/hyperlink" Target="http://www.funtrivia.com/en/subtopics/William-Penn-268147.html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slide" Target="slide5.xml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slide" Target="slide2.xml"/><Relationship Id="rId10" Type="http://schemas.openxmlformats.org/officeDocument/2006/relationships/slide" Target="slide3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http://www.5min.com/Video/Benjamin-Franklin-Biography-120001981" TargetMode="External"/><Relationship Id="rId4" Type="http://schemas.openxmlformats.org/officeDocument/2006/relationships/image" Target="../media/image7.jpeg"/><Relationship Id="rId5" Type="http://schemas.openxmlformats.org/officeDocument/2006/relationships/slide" Target="slide1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ushistory.org/betsy/flagstar.html" TargetMode="External"/><Relationship Id="rId4" Type="http://schemas.openxmlformats.org/officeDocument/2006/relationships/image" Target="../media/image9.png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1809720" cy="2162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20764200">
            <a:off x="456840" y="1142640"/>
            <a:ext cx="64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"/>
              </a:rPr>
              <a:t>Historic Figures of Pennsylva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5334120"/>
            <a:ext cx="3810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By: Matthew DeFa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Summer I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ITC 5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08040" y="468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5562720"/>
            <a:ext cx="16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EGIN HE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1676160" cy="2210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029200" y="2438280"/>
            <a:ext cx="1523880" cy="2210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858000" y="1066680"/>
            <a:ext cx="1523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7621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"/>
              </a:rPr>
              <a:t>ISTE 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550880"/>
            <a:ext cx="7839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Creativity and Inno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dents demonstrate creative thinking, construct knowledge, and develop innovative products and processes using technology. Stud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apply existing knowledge to generate new ideas, products, or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create original works as a means of personal or group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use models and simulations to explore complex systems and 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Research and Information Fl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dents apply digital tools to gather, evaluate, and use information. Stud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plan strategies to guide inqui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locate, organize, analyze, evaluate, synthesize, and ethically use information from a variety of sourc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evaluate and select information sources and digital tools based on the appropriateness to specific ta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Technology Operations and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dents demonstrate a sound understanding of technology concepts, systems, and operations. Stud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understand and use technology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select and use applications effectively and produ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6104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57400" y="68580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entury"/>
              </a:rPr>
              <a:t>Quiz Ti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523880"/>
            <a:ext cx="4114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Ben Franklin’s most important discoveries were in the topic of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429000"/>
            <a:ext cx="3352680" cy="76212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5257800"/>
            <a:ext cx="3352680" cy="76212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3429000"/>
            <a:ext cx="3429000" cy="76212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5257800"/>
            <a:ext cx="3352680" cy="76212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36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ele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5486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Ocean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56386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486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hip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41148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057400" y="60948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entury"/>
              </a:rPr>
              <a:t>Quiz Ti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1523880"/>
            <a:ext cx="4114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asked Betsy Ross to make the first American Fla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429000"/>
            <a:ext cx="3352680" cy="76212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5257800"/>
            <a:ext cx="3352680" cy="76212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429000"/>
            <a:ext cx="3429000" cy="76212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5257800"/>
            <a:ext cx="3352680" cy="76212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3657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amil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Ob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5486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Linco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56386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5486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Washing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41148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057400" y="60948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entury"/>
              </a:rPr>
              <a:t>Quiz Ti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1523880"/>
            <a:ext cx="4114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ity did William Penn de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3429000"/>
            <a:ext cx="3352680" cy="76212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5257800"/>
            <a:ext cx="3352680" cy="76212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3429000"/>
            <a:ext cx="3429000" cy="76212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5257800"/>
            <a:ext cx="3352680" cy="76212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36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arri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Allen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5486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Philadelph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6386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10080" y="5486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Pittsbur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41148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895480" y="685800"/>
            <a:ext cx="3124440" cy="192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"/>
              </a:rPr>
              <a:t>Great Job You Are Correct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666880" y="2730600"/>
            <a:ext cx="3505320" cy="3365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29240" y="6186600"/>
            <a:ext cx="4923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Click to Select Another Famous Pennsylvan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8534520" y="6248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251460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057400" y="1066680"/>
            <a:ext cx="48006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Good Try…..But Wrong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9" action="ppaction://hlinksldjump"/>
          </p:cNvPr>
          <p:cNvSpPr/>
          <p:nvPr/>
        </p:nvSpPr>
        <p:spPr>
          <a:xfrm>
            <a:off x="2666880" y="5410080"/>
            <a:ext cx="3657600" cy="838440"/>
          </a:xfrm>
          <a:custGeom>
            <a:avLst/>
            <a:gdLst>
              <a:gd name="textAreaLeft" fmla="*/ 914400 w 3657600"/>
              <a:gd name="textAreaRight" fmla="*/ 2743200 w 3657600"/>
              <a:gd name="textAreaTop" fmla="*/ 0 h 838440"/>
              <a:gd name="textAreaBottom" fmla="*/ 733680 h 8384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895480" y="685800"/>
            <a:ext cx="3124440" cy="192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"/>
              </a:rPr>
              <a:t>Great Job You Are Correct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666880" y="2730600"/>
            <a:ext cx="3505320" cy="3365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86480" y="6132600"/>
            <a:ext cx="4923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Click to Select Another Famous Pennsylvan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85345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251460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057400" y="1066680"/>
            <a:ext cx="48006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Good Try…..But Wrong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9" action="ppaction://hlinksldjump"/>
          </p:cNvPr>
          <p:cNvSpPr/>
          <p:nvPr/>
        </p:nvSpPr>
        <p:spPr>
          <a:xfrm>
            <a:off x="2666880" y="5410080"/>
            <a:ext cx="3657600" cy="838440"/>
          </a:xfrm>
          <a:custGeom>
            <a:avLst/>
            <a:gdLst>
              <a:gd name="textAreaLeft" fmla="*/ 914400 w 3657600"/>
              <a:gd name="textAreaRight" fmla="*/ 2743200 w 3657600"/>
              <a:gd name="textAreaTop" fmla="*/ 0 h 838440"/>
              <a:gd name="textAreaBottom" fmla="*/ 733680 h 8384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41148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895480" y="685800"/>
            <a:ext cx="3124440" cy="192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"/>
              </a:rPr>
              <a:t>Great Job You Are Correct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666880" y="2730600"/>
            <a:ext cx="3505320" cy="3365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10160" y="6172200"/>
            <a:ext cx="4923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Click to Select Another Famous Pennsylvan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85345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251460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057400" y="1066680"/>
            <a:ext cx="48006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Good Try…..But Wrong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9" action="ppaction://hlinksldjump"/>
          </p:cNvPr>
          <p:cNvSpPr/>
          <p:nvPr/>
        </p:nvSpPr>
        <p:spPr>
          <a:xfrm>
            <a:off x="2666880" y="5410080"/>
            <a:ext cx="3657600" cy="838440"/>
          </a:xfrm>
          <a:custGeom>
            <a:avLst/>
            <a:gdLst>
              <a:gd name="textAreaLeft" fmla="*/ 914400 w 3657600"/>
              <a:gd name="textAreaRight" fmla="*/ 2743200 w 3657600"/>
              <a:gd name="textAreaTop" fmla="*/ 0 h 838440"/>
              <a:gd name="textAreaBottom" fmla="*/ 733680 h 8384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43200" y="1447920"/>
            <a:ext cx="3657600" cy="45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"/>
                <a:hlinkClick r:id="rId2" action="ppaction://hlinksldjump"/>
              </a:rPr>
              <a:t>Famous People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"/>
                <a:hlinkClick r:id="rId3" action="ppaction://hlinksldjump"/>
              </a:rPr>
              <a:t>Frank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"/>
                <a:hlinkClick r:id="rId4" action="ppaction://hlinksldjump"/>
              </a:rPr>
              <a:t>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"/>
                <a:hlinkClick r:id="rId5" action="ppaction://hlinksldjump"/>
              </a:rPr>
              <a:t>Pe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"/>
                <a:hlinkClick r:id="rId6" action="ppaction://hlinksldjump"/>
              </a:rPr>
              <a:t>Cre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"/>
                <a:hlinkClick r:id="rId7" action="ppaction://hlinksldjump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"/>
                <a:hlinkClick r:id="rId8" action="ppaction://hlinksldjump"/>
              </a:rPr>
              <a:t>P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"/>
                <a:hlinkClick r:id="rId9" action="ppaction://hlinksldjump"/>
              </a:rPr>
              <a:t>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"/>
                <a:hlinkClick r:id="rId10" action="ppaction://hlinksldjump"/>
              </a:rPr>
              <a:t>Addition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41148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676520" y="3049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dditional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8520" y="1447920"/>
            <a:ext cx="423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i.edu/franklin/scientst/electric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2000" y="1828800"/>
            <a:ext cx="88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kidsnewsroom.org/elmer/infoCentral/frameset/inventors/franklin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1143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Ben Frank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23623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Betsy 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57160" y="2819520"/>
            <a:ext cx="509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youtube.com/watch?v=e3HDeesg6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76040" y="3246480"/>
            <a:ext cx="6991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russell.gresham.k12.or.us/Colonial_America/Betsy_Ros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3962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William Pe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8960" y="4419720"/>
            <a:ext cx="6686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brainyquote.com/quotes/authors/w/william_pen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funtrivia.com/en/subtopics/William-Penn-26814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firstslide"/>
          </p:cNvPr>
          <p:cNvSpPr/>
          <p:nvPr/>
        </p:nvSpPr>
        <p:spPr>
          <a:xfrm>
            <a:off x="41148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38280" y="83808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"/>
              </a:rPr>
              <a:t>Famous 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057400"/>
            <a:ext cx="2210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enjamin Frank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2057400"/>
            <a:ext cx="16002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William Pe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219320" y="2514600"/>
            <a:ext cx="1676160" cy="2209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161040" y="2438280"/>
            <a:ext cx="1839960" cy="2286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9880" y="4114800"/>
            <a:ext cx="13716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Betsy 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3809880" y="4495680"/>
            <a:ext cx="1395360" cy="2024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84582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9640" y="547560"/>
            <a:ext cx="536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entury"/>
              </a:rPr>
              <a:t>Benjamin Frankl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04920" y="6063840"/>
            <a:ext cx="37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enny saved is a penny earned”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1140120"/>
            <a:ext cx="1646568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Founding Fathers of the United St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Printer, scientist, inventor, civic activist and diplom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He made many discoveries and theories regarding electr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Developed the idea of an American 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81480" y="4600440"/>
            <a:ext cx="3009960" cy="1495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4038480"/>
            <a:ext cx="180504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43200" y="4267080"/>
            <a:ext cx="106668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on the picture of Ben to learn mo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3200400"/>
            <a:ext cx="1752480" cy="1143000"/>
          </a:xfrm>
          <a:custGeom>
            <a:avLst/>
            <a:gdLst>
              <a:gd name="textAreaLeft" fmla="*/ 399960 w 1752480"/>
              <a:gd name="textAreaRight" fmla="*/ 1352520 w 1752480"/>
              <a:gd name="textAreaTop" fmla="*/ 261000 h 1143000"/>
              <a:gd name="textAreaBottom" fmla="*/ 88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ake the 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41148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438280" y="54756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"/>
              </a:rPr>
              <a:t>Betsy Ro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495680" y="3608280"/>
            <a:ext cx="4229280" cy="281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29480" y="3734280"/>
            <a:ext cx="3916080" cy="120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5560" bIns="85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lick on the Star below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earn how to make a 5-Poi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tar in One “Snip” of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you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scisso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28640" y="5113440"/>
            <a:ext cx="1495440" cy="1363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3600" y="1219320"/>
            <a:ext cx="803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rge Washington, Robert Morris,  and George Ros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ked Betsy to sew the first flag. This meeting occur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er home some time late in May 177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rding to Betsy, General Washington showed her a rough desig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lag that included a six-pointed star. Betsy, a standout wit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ssors, demonstrated how to cut a five-pointed sta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 a single sn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essed, the committee entrusted Betsy with making our first flag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762120"/>
            <a:ext cx="1752480" cy="1143000"/>
          </a:xfrm>
          <a:custGeom>
            <a:avLst/>
            <a:gdLst>
              <a:gd name="textAreaLeft" fmla="*/ 399960 w 1752480"/>
              <a:gd name="textAreaRight" fmla="*/ 1352520 w 1752480"/>
              <a:gd name="textAreaTop" fmla="*/ 261000 h 1143000"/>
              <a:gd name="textAreaBottom" fmla="*/ 88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ak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3962520" y="6248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09680" y="47160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"/>
              </a:rPr>
              <a:t>William Pen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2920" y="1063080"/>
            <a:ext cx="860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William Penn is known as the founder of Pennsylv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and designed the city of Philadelph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He is also known as a famous Quaker and for 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'Great Treaty‘ with the Delaware Trib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Penn was well-liked because he was a peaceful 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who tried to help Native Americans and Colonists l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together happil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946200">
            <a:off x="7097760" y="4714560"/>
            <a:ext cx="129996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14800" y="4753080"/>
            <a:ext cx="25146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on this picture of “Tishcohan” and complete the journal activity describ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 rot="20480400">
            <a:off x="590040" y="4800600"/>
            <a:ext cx="1390680" cy="1341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09680" y="4800600"/>
            <a:ext cx="1752840" cy="1143000"/>
          </a:xfrm>
          <a:custGeom>
            <a:avLst/>
            <a:gdLst>
              <a:gd name="textAreaLeft" fmla="*/ 399960 w 1752840"/>
              <a:gd name="textAreaRight" fmla="*/ 1352880 w 1752840"/>
              <a:gd name="textAreaTop" fmla="*/ 261000 h 1143000"/>
              <a:gd name="textAreaBottom" fmla="*/ 88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ak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41148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05120" y="1297080"/>
            <a:ext cx="5333760" cy="3808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6000" y="5029200"/>
            <a:ext cx="87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In your journal, describe this picture in your own 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Be sure to include who you think is in this pictur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Which one is William Pen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What do you think is happening in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5778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Journal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5345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9960" y="3048120"/>
            <a:ext cx="47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ilaprintshop.com/pamaps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701880"/>
            <a:ext cx="74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jenningsk12.net/WE/peimann/socialstudies/SymbolsofAmerica/libertybell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" y="1995480"/>
            <a:ext cx="80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crapetv.com/News/News%20Pages/usa/images-4/benjamin-frankli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7720" y="4586400"/>
            <a:ext cx="83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onofthesouth.net/revolutionary-war/patriots/pictures/robert-morris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0320" y="1143000"/>
            <a:ext cx="581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hebsreport.files.wordpress.com/2009/08/pen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7440" y="3429000"/>
            <a:ext cx="49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betsyrossfacts.com/images/betsy-ross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8880" y="2362320"/>
            <a:ext cx="54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shistory.org/betsy/more/weisgerbe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9120" y="4267080"/>
            <a:ext cx="45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shistory.org/betsy/flagsta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447920"/>
            <a:ext cx="91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railoftears.files.wordpress.com/2008/04/william-penn-treat-with-indians-benjamin-wes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7000" y="4876920"/>
            <a:ext cx="79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loggingfromscratch.com/wp-content/uploads/2008/08/trophy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2160" y="228600"/>
            <a:ext cx="658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4880" y="487440"/>
            <a:ext cx="598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age, Text and Video Cr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920" y="2743200"/>
            <a:ext cx="71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5min.com/Video/Benjamin-Franklin-Biography-1200019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7720" y="5181480"/>
            <a:ext cx="64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olarnavigator.net/inventors/benjamin_frankli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560" y="5410080"/>
            <a:ext cx="51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xroads.virginia.edu/~CAP/penn/pnintr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400" y="5653080"/>
            <a:ext cx="45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shistory.org/betsy/flagsta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120" y="5943600"/>
            <a:ext cx="39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shistory.org/penn/bi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43434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91440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"/>
              </a:rPr>
              <a:t>PDE 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8880" y="2048400"/>
            <a:ext cx="682632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2.6 A Identify and explain the political and cultural contributions of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groups to Pennsylvania history from Beginnings to 182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habitants (e.g., Native Americans, Europeans, Afric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itary Leaders (e.g., Anthony Wayne, Oliver H. Perry, John Muhlenbe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tical Leaders (e.g., William Penn, Hannah Penn, Benjamin Frankli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ltural and Commercial Leaders (e.g., Robert Morris, John Bartram, Albert Gallat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novators and Reformers (e.g., Society of Friends, Richard Allen, Sybilla Mas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4692600"/>
            <a:ext cx="78390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4.5 B Write multi-paragraph informational pieces (e.g., essays, descriptions, letters, reports, instruction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· Include cause and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· Develop a problem and solution when appropriate to the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· Use relevant graphics (e.g., maps, charts, graphs, tabl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trations, photograph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1676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story 8.2 History of Pennsylv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4267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ding, Writing, and Listening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41148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02:18:41Z</dcterms:created>
  <dc:creator>Parkland School District</dc:creator>
  <dc:description/>
  <dc:language>en-US</dc:language>
  <cp:lastModifiedBy>Parkland School District</cp:lastModifiedBy>
  <dcterms:modified xsi:type="dcterms:W3CDTF">2010-06-05T19:12:01Z</dcterms:modified>
  <cp:revision>16</cp:revision>
  <dc:subject/>
  <dc:title>Slide 1</dc:title>
</cp:coreProperties>
</file>